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47955"/>
        <c:axId val="21980909"/>
      </c:barChart>
      <c:catAx>
        <c:axId val="88947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80909"/>
        <c:crosses val="autoZero"/>
        <c:auto val="1"/>
        <c:lblAlgn val="ctr"/>
        <c:lblOffset val="100"/>
        <c:noMultiLvlLbl val="0"/>
      </c:catAx>
      <c:valAx>
        <c:axId val="21980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47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B7F-8EE1-4301-A263-607DCF87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33A-E306-4169-AA16-499D6CC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DAE-A130-4F5F-B5F5-E0E9DF5C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7E2-9CDF-4353-A349-141D9D9A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C07-5A72-4A0B-BD5E-B59186F6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AFF-1CC9-40AD-BCD2-7FEA60A1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ABA-78BB-4810-98AD-9EF3E602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23C-5136-4162-AAEA-3B3F1D8A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6E3-9E10-40E8-8E3C-4610B48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EF2-236C-44D9-866D-C3A26C74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690-C162-4BF5-BE2D-DCED91E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0D1-D5AC-496B-87DF-2AFCD82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5F8A3-43E0-454B-8959-9DCF54363A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